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882-3E9A-4BDE-A6B1-D9C0FAE4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15C-18FE-45BC-A8DD-F937D8B0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9B0-E4B8-4BCD-B215-C2699D10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9D1-2734-4411-B7EF-9332C504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1C44-D5B3-4DF4-8570-0A795939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B873-6CC5-4D5E-A61D-E36DB078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8C57-06EE-43E5-AA48-9BA8A0F7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DFF3-E0BD-490C-950E-7E0F1823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0DD8-0B5E-4CFB-8530-7ED6231B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EE0D-0CDF-45FB-B0D2-E7260D82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BDD3-CC66-4BA3-8436-79445E06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B8A-429D-4D13-8F02-0B2A9873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5C5E-7C4C-4F35-98CC-FC955D0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4352-6CD6-494E-9857-5412E44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EC82-CA40-4B20-ADC2-9B87F34F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22F1-0180-4659-A540-E7890E41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ACB0-0431-48D0-BC9F-993C37CD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1F75C-AAC3-4672-94EF-295BF7E4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F6D92-1AEC-49BB-9327-F5CB2576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9E302-3138-4663-9854-C7FB1E0B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F5A5C-F56E-4A73-B169-70AC78A0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80FB2-0003-4311-9AC2-CBDD00B3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922-65A6-45EE-8893-D46FCFCC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F7F76-C867-4DA3-BD54-907B32EE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E6501-AB4B-47DF-83C9-403620E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705CE-7818-462D-911F-0AF1D2A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BD78F-634B-4A47-9E11-40A4AA0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FF1FA-198D-4BCD-95E0-3AAD2B3F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38C08-48B3-4AE2-B28E-D272BF1B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75E6A-C10F-4F07-B90C-94D72506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4E771-2A94-4471-8A3D-7E86B32B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7774-9E64-4700-92CE-5D271A60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00CA-59EE-4972-B5D5-9F4EF72C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451-0194-4B2D-BE40-5E28D423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D5C53-0E43-4F9B-8E9E-8225096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AF29-2FD5-4E5A-A671-8A6E4443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2B1C5-DD7A-4E5A-AC14-1D3BD529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9731-A496-4836-B1B7-F317DDCE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BE08-5450-46DD-8427-F4E72D5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ECFB-F10A-4078-BB26-8C55CA8F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A5DC-A67A-4973-B70D-3B21F0F9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CE97-9281-4850-BE7D-3A65F5B8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D37A-9EB8-43CE-BBFC-798D9335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5CF86-FC12-4834-ABF4-E4D60F7D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6A2-0489-4DA3-9CC6-0B71F0B9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F4F8F-9D61-43CE-A6E1-2AE6051B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C7EFF-DFB3-4D9D-84D0-4681262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F4868-B75D-4F8D-8A8B-7AA6FFE3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1056C-0DA0-4717-A085-7EAB8DB7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E7159-A110-48CC-AA7E-05CE5DED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CC3AB-2552-4373-A72E-5029EDE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E7A28-49FB-44FA-9D95-B47A4D91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5081A-0307-424C-8650-8B8EE3C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945C6-A60F-471C-9012-9B0BF2AE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8B4BB-31B5-4D85-8DF4-862CE87E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5CF-0F13-41A0-BF18-B46E4412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89F57-C559-4C8A-9527-86CB7CE6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5697A-41E5-46B9-83EB-03C9046A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2177E-7872-497D-A7D3-64F80F89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31F5E-C7A9-45C3-B944-99FC7D31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CF44-E2E7-4CD8-9183-2C20548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11F35-5204-4DF1-B4C1-92766EF7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04B0E-3A48-4030-88D7-EA3B6D3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0254F-B87C-4D71-9EC3-6B61086C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E9C6-B4B5-4CE8-8AE5-8E1DD828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C03FC-8A5B-4CC1-BD4D-D1E65525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9B7-C9F3-4490-94A8-F33F85D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622E2-D8B4-469C-B89C-93EF945D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B6AFE-0ED5-4111-9F8B-00AFA3B5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A4C44-FD1D-4161-8EC0-9BC599A3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2FD-6D37-4883-8E1E-093115B5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FF8-85C7-4292-B249-BCCA9768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893A-2EB2-4848-BE68-2E623FBD78C1}" type="slidenum">
              <a:rPr b="1" lang="en-N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31FF-AB1A-4241-9F56-5E15931A317F}" type="slidenum">
              <a:rPr b="1" lang="en-NZ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1B26-98CA-4823-8FFC-3FB980B9C599}" type="slidenum">
              <a:rPr b="1" lang="en-NZ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C45F-A7C7-4EA5-8743-52D07AC7CE84}" type="slidenum">
              <a:rPr b="1" lang="en-NZ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58C8-0A29-4A52-A414-6F7A45377095}" type="slidenum">
              <a:rPr b="1" lang="en-NZ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E4F3-5B1F-4735-A669-F16D7729BE3B}" type="slidenum">
              <a:rPr b="1" lang="en-N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ear.ign.com/email.html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nimoto.com/play/NlRuT094QpV14CrnPU8Svg" TargetMode="External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uzzle.com/articles/history-home-video-game-consoles.html" TargetMode="External"/><Relationship Id="rId2" Type="http://schemas.openxmlformats.org/officeDocument/2006/relationships/hyperlink" Target="http://www.xbox.com/en-NZ/Kinect/GetStarted" TargetMode="External"/><Relationship Id="rId3" Type="http://schemas.openxmlformats.org/officeDocument/2006/relationships/hyperlink" Target="http://www.videogameshardware.org/" TargetMode="External"/><Relationship Id="rId4" Type="http://schemas.openxmlformats.org/officeDocument/2006/relationships/hyperlink" Target="http://www.google.co.nz/#hl=en&amp;biw=1276&amp;bih=801&amp;q=RAM&amp;aq=f&amp;aqi=&amp;aql=&amp;oq=&amp;gs_rfai=&amp;fp=ba95106cf13a9c7c" TargetMode="External"/><Relationship Id="rId5" Type="http://schemas.openxmlformats.org/officeDocument/2006/relationships/hyperlink" Target="http://www.thegameconsole.com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d6ecff"/>
                </a:solidFill>
                <a:latin typeface="Tw Cen MT"/>
              </a:rPr>
              <a:t>GAMING</a:t>
            </a:r>
            <a:endParaRPr b="0" lang="en-US" sz="60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5720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Tw Cen MT"/>
              </a:rPr>
              <a:t>How has it changed through the decades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500040" y="44290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By Sally, Hannah, Caius and 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C:\Documents and Settings\rhsuser\Local Settings\Temporary Internet Files\Content.IE5\G5EC1UJ2\MC900357973[1].wmf"/>
          <p:cNvPicPr/>
          <p:nvPr/>
        </p:nvPicPr>
        <p:blipFill>
          <a:blip r:embed="rId1"/>
          <a:stretch/>
        </p:blipFill>
        <p:spPr>
          <a:xfrm>
            <a:off x="6643800" y="357120"/>
            <a:ext cx="2325600" cy="2193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Documents and Settings\rhsuser\Local Settings\Temporary Internet Files\Content.IE5\505L7UOJ\MC900334490[1].wmf"/>
          <p:cNvPicPr/>
          <p:nvPr/>
        </p:nvPicPr>
        <p:blipFill>
          <a:blip r:embed="rId2"/>
          <a:stretch/>
        </p:blipFill>
        <p:spPr>
          <a:xfrm>
            <a:off x="142920" y="3857760"/>
            <a:ext cx="19638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Newly Release – x-box Kinec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305" name="Kinect Official Trailer [www.keepvid.com]_WMV V9.wmv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7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microsoft-xbox-kinect.jpg"/>
          <p:cNvPicPr/>
          <p:nvPr/>
        </p:nvPicPr>
        <p:blipFill>
          <a:blip r:embed="rId1"/>
          <a:stretch/>
        </p:blipFill>
        <p:spPr>
          <a:xfrm>
            <a:off x="1357200" y="1143000"/>
            <a:ext cx="588168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Video game Technology 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285840" y="36432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How has the video consoles’ technology changed through the deca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Xbox 360 vs. Playstation 3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Xbox 36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Playstation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2" name="Picture 6" descr="imagesCABC9ONF.jpg"/>
          <p:cNvPicPr/>
          <p:nvPr/>
        </p:nvPicPr>
        <p:blipFill>
          <a:blip r:embed="rId1"/>
          <a:stretch/>
        </p:blipFill>
        <p:spPr>
          <a:xfrm>
            <a:off x="5429160" y="2428920"/>
            <a:ext cx="2500560" cy="2649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13" name="Picture 7" descr="xbox360.jpg"/>
          <p:cNvPicPr/>
          <p:nvPr/>
        </p:nvPicPr>
        <p:blipFill>
          <a:blip r:embed="rId2"/>
          <a:stretch/>
        </p:blipFill>
        <p:spPr>
          <a:xfrm>
            <a:off x="857160" y="2357280"/>
            <a:ext cx="2714760" cy="2748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285840" y="285840"/>
            <a:ext cx="8572320" cy="67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Ever since the PlayStation 3 arrived on the market to challenge the Xbox 360 in 2006, gamers have argued about which system is b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processors for the Xbox and PS3 are unique. It can be difficult to make direct compari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comparison that </a:t>
            </a:r>
            <a:r>
              <a:rPr b="0" lang="en-NZ" sz="1800" spc="-1" strike="noStrike" u="sng">
                <a:solidFill>
                  <a:srgbClr val="eb8803"/>
                </a:solidFill>
                <a:uFillTx/>
                <a:latin typeface="Tw Cen MT"/>
                <a:hlinkClick r:id="rId1"/>
              </a:rPr>
              <a:t>Jesse Schedeen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 from IGN Gear have broken the console into ten technical categor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CPU - </a:t>
            </a: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central processing unit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GPU - </a:t>
            </a: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graphics processing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RAM - </a:t>
            </a: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Random-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Hard dr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Disc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Vide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Audi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Backwards Compatibility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154402-ps3_xbox360_original.jpg"/>
          <p:cNvPicPr/>
          <p:nvPr/>
        </p:nvPicPr>
        <p:blipFill>
          <a:blip r:embed="rId2"/>
          <a:stretch/>
        </p:blipFill>
        <p:spPr>
          <a:xfrm>
            <a:off x="4643280" y="3000240"/>
            <a:ext cx="3505320" cy="24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4714920" y="6429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285840" y="2858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Out of the ten categories, Play station 3 is the W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t won seven out of the ten categories in this Internet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Tw Cen MT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285840" y="1571760"/>
            <a:ext cx="86439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CPU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GPU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Xbox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RAM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Hard drives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Disc drive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Video Support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Audio Support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Connectivity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Networking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Xbox 360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Backwards Compatibility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Xbox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eb8803"/>
                </a:solidFill>
                <a:uFillTx/>
                <a:latin typeface="Tw Cen MT"/>
                <a:hlinkClick r:id="rId1"/>
              </a:rPr>
              <a:t>http://animoto.com/play/NlRuT094QpV14CrnPU8Svg#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12720" y="142920"/>
            <a:ext cx="815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Tw Cen MT"/>
              </a:rPr>
              <a:t>Bibliograph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Internet Sources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au.gear.ign.com/articles/111/1116182p2.html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1"/>
              </a:rPr>
              <a:t>http://www.buzzle.com/articles/history-home-video-game-consoles.html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2"/>
              </a:rPr>
              <a:t>http://www.xbox.com/en-NZ/Kinect/GetStarted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3"/>
              </a:rPr>
              <a:t>http://www.videogameshardware.org/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4"/>
              </a:rPr>
              <a:t>http://www.google.co.nz/#hl=en&amp;biw=1276&amp;bih=801&amp;q=RAM&amp;aq=f&amp;aqi=&amp;aql=&amp;oq=&amp;gs_rfai=&amp;fp=ba95106cf13a9c7c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5"/>
              </a:rPr>
              <a:t>http://www.thegameconsole.com/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en.wikipedia.org/wiki/Video_game_consol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en.wikipedia.org/wiki/Video_game_industry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www.gamesradar.com/f/1998-vs-2008-how-has-gaming-changed-in-10-years/a-2008122210433062025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www.time.com/time/covers/1101050523/console_timeline/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000000"/>
                </a:solidFill>
                <a:uFillTx/>
                <a:latin typeface="Tw Cen MT"/>
              </a:rPr>
              <a:t>www.pcworld.com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000000"/>
                </a:solidFill>
                <a:uFillTx/>
                <a:latin typeface="Tw Cen MT"/>
              </a:rPr>
              <a:t>www.youtube.com/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000000"/>
                </a:solidFill>
                <a:uFillTx/>
                <a:latin typeface="Tw Cen MT"/>
              </a:rPr>
              <a:t>www.google.com/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000000"/>
                </a:solidFill>
                <a:uFillTx/>
                <a:latin typeface="Tw Cen MT"/>
              </a:rPr>
              <a:t>Book Sources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Cool Stuff Exploded – pg 154- Chris Woodford -First published 2008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The Art of Game Worlds – pg 1 – Dave Morris &amp; Leo Hartas – First published 2004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3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3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3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31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31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magnavoxodyssey.jpg"/>
          <p:cNvPicPr/>
          <p:nvPr/>
        </p:nvPicPr>
        <p:blipFill>
          <a:blip r:embed="rId1"/>
          <a:stretch/>
        </p:blipFill>
        <p:spPr>
          <a:xfrm>
            <a:off x="2143080" y="2786040"/>
            <a:ext cx="5095800" cy="33973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Origins of Video Consol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Released in 1972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Magnavox Odyssey is the first home video game conso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imagesCAM6RQHK.jpg"/>
          <p:cNvPicPr/>
          <p:nvPr/>
        </p:nvPicPr>
        <p:blipFill>
          <a:blip r:embed="rId1"/>
          <a:stretch/>
        </p:blipFill>
        <p:spPr>
          <a:xfrm>
            <a:off x="5286240" y="5000760"/>
            <a:ext cx="2733840" cy="16761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4e5b6f"/>
                </a:solidFill>
                <a:latin typeface="Tw Cen MT"/>
              </a:rPr>
              <a:t>Video Consoles through the decade (2000 – 2010)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272" name="Picture 2" descr="imagesCAIQQZOL.jpg"/>
          <p:cNvPicPr/>
          <p:nvPr/>
        </p:nvPicPr>
        <p:blipFill>
          <a:blip r:embed="rId2"/>
          <a:stretch/>
        </p:blipFill>
        <p:spPr>
          <a:xfrm>
            <a:off x="571680" y="357120"/>
            <a:ext cx="245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Sony Play station 1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first new version was actually a revision in early 1996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t was made in response to complaints that PlayStations were overheating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Sony did not change the technical aspects or the cosmetics, but did remove the S-video port left over from the Japanese releas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5" name="Picture 3" descr="psone.jpg"/>
          <p:cNvPicPr/>
          <p:nvPr/>
        </p:nvPicPr>
        <p:blipFill>
          <a:blip r:embed="rId1"/>
          <a:stretch/>
        </p:blipFill>
        <p:spPr>
          <a:xfrm>
            <a:off x="5572080" y="3286080"/>
            <a:ext cx="2755800" cy="2343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playstation.jpg"/>
          <p:cNvPicPr/>
          <p:nvPr/>
        </p:nvPicPr>
        <p:blipFill>
          <a:blip r:embed="rId2"/>
          <a:stretch/>
        </p:blipFill>
        <p:spPr>
          <a:xfrm>
            <a:off x="642960" y="3286080"/>
            <a:ext cx="2571840" cy="27003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428760" y="5929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1996 Play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857920" y="59292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2000 Play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imagesCAYECJ8C.jpg"/>
          <p:cNvPicPr/>
          <p:nvPr/>
        </p:nvPicPr>
        <p:blipFill>
          <a:blip r:embed="rId1"/>
          <a:stretch/>
        </p:blipFill>
        <p:spPr>
          <a:xfrm>
            <a:off x="5429160" y="314316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ps2-photo.jpg"/>
          <p:cNvPicPr/>
          <p:nvPr/>
        </p:nvPicPr>
        <p:blipFill>
          <a:blip r:embed="rId2"/>
          <a:stretch/>
        </p:blipFill>
        <p:spPr>
          <a:xfrm>
            <a:off x="928800" y="3643200"/>
            <a:ext cx="2311200" cy="2205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Sony Play Station 2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Released in 200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PlayStation 2 was very popular and is often sold out in retail stor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n September 2004, Sony unveiled its third major hardware revision it is smaller, thinner, and quieter than the older versions. Also known as play station 2 sli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71680" y="607212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lay station 2 released in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5286240" y="550080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lay station 2 slim released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Nintendo Game Cube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hysically shaped similar to a geometric cube, the outside casing of the Nintendo GameCube comes in a variety of , such as indigo, platinum, and black (also a limited edition Resident Evil 4 platinum and black game console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Nintendo GameCube uses a unique storage medium, the GameCube Optical Disc, a proprietary format based on Matsushita's optical-disc technology.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857160" y="1571760"/>
            <a:ext cx="721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gamecube.jpg"/>
          <p:cNvPicPr/>
          <p:nvPr/>
        </p:nvPicPr>
        <p:blipFill>
          <a:blip r:embed="rId1"/>
          <a:stretch/>
        </p:blipFill>
        <p:spPr>
          <a:xfrm>
            <a:off x="4929120" y="3643200"/>
            <a:ext cx="3000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box360.jpg"/>
          <p:cNvPicPr/>
          <p:nvPr/>
        </p:nvPicPr>
        <p:blipFill>
          <a:blip r:embed="rId1"/>
          <a:stretch/>
        </p:blipFill>
        <p:spPr>
          <a:xfrm>
            <a:off x="428760" y="3398760"/>
            <a:ext cx="2428920" cy="26020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Microsoft X-Box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Microsoft Xbox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s a sixth generation era video game console first released on November 15, 2001 in North Americ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The Xbox 360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s Microsoft's newest video game console, the successor to their original Xbox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2" name="Picture 6" descr="xbox.jpg"/>
          <p:cNvPicPr/>
          <p:nvPr/>
        </p:nvPicPr>
        <p:blipFill>
          <a:blip r:embed="rId2"/>
          <a:stretch/>
        </p:blipFill>
        <p:spPr>
          <a:xfrm>
            <a:off x="5786280" y="33577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8"/>
          <p:cNvSpPr/>
          <p:nvPr/>
        </p:nvSpPr>
        <p:spPr>
          <a:xfrm>
            <a:off x="28584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X-box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5786280" y="57862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Microsoft x-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Sony PlayStation 3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PlayStation 3 was released in North America on November 17, 2006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A major feature that distinguishes the PlayStation 3 from playStation 1 and 2 is its unified online gaming servic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redesigned, slimmer version of the PlayStation 3 is currently the only model in productio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7" name="Picture 3" descr="imagesCABC9ONF.jpg"/>
          <p:cNvPicPr/>
          <p:nvPr/>
        </p:nvPicPr>
        <p:blipFill>
          <a:blip r:embed="rId1"/>
          <a:stretch/>
        </p:blipFill>
        <p:spPr>
          <a:xfrm>
            <a:off x="5643720" y="3143160"/>
            <a:ext cx="2512800" cy="2662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sony-playstation-3-3ej-460.jpg"/>
          <p:cNvPicPr/>
          <p:nvPr/>
        </p:nvPicPr>
        <p:blipFill>
          <a:blip r:embed="rId2"/>
          <a:stretch/>
        </p:blipFill>
        <p:spPr>
          <a:xfrm>
            <a:off x="500040" y="3143160"/>
            <a:ext cx="3587760" cy="26910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357120" y="60008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layst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6215040" y="58579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laystation 3 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wii_console_3.jpg"/>
          <p:cNvPicPr/>
          <p:nvPr/>
        </p:nvPicPr>
        <p:blipFill>
          <a:blip r:embed="rId1"/>
          <a:stretch/>
        </p:blipFill>
        <p:spPr>
          <a:xfrm>
            <a:off x="5000760" y="3500280"/>
            <a:ext cx="3022560" cy="3022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Nintendo Wii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Released in 2006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console was known by the codename of "Revolution" until April 27, 2006, when it was renamed Wii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Wii Remote is the primary controller for the console. It uses a combination of built-in accelerometers and infrared detection to sense its position in 3D space when pointed at the LEDs within the Sensor Ba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0:52:22Z</dcterms:created>
  <dc:creator>Christchurch City Libraries</dc:creator>
  <dc:description/>
  <dc:language>en-US</dc:language>
  <cp:lastModifiedBy>Student Computing</cp:lastModifiedBy>
  <dcterms:modified xsi:type="dcterms:W3CDTF">2010-12-07T22:41:07Z</dcterms:modified>
  <cp:revision>60</cp:revision>
  <dc:subject/>
  <dc:title>Gaming</dc:title>
</cp:coreProperties>
</file>